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048-02D4-4C08-BEEF-90A4C8E3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D7F-5A06-4403-8065-DD190D20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B43-3123-4136-A16C-8D510DE1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E88-9958-4FA1-9D73-3D3929BB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1428-633D-4ADF-9F90-D0E61000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70FE-45E2-4387-AE29-B6CD10F9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1074-EBFB-4E1F-A544-9D8930D7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B48B-5229-4D34-8568-339A9DB4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1C86-563B-4B69-AA7E-15C7B33A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6FC8-F31B-4205-A45E-00676F74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6C97-70C9-40EE-9B75-96C74BDC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05A-2C2B-4159-9C72-32F9102D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396C-2F09-4942-89A0-680F11FE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314A-823E-42FA-B64A-2EDE3E00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71D2-F221-480C-BCCA-C45C359E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9D05-90C4-4CC5-9F2E-89D9B8FD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EDCD-3E4E-443C-BE6A-EDB93979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BAB1-3F92-4DC9-8051-D430482E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5A15-CCF7-44ED-8700-E4546CE5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F7367-9D28-4AC7-982C-1F47D8CC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A1757-9620-4BA3-9D1F-BEFD4BC6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4E854-155A-45CB-AE55-240EB2A5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4EC-EE3B-45C3-AB4F-2C5E049E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9B826-F75C-4F19-9ABC-5C9A8E3A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0BC6-A47C-4244-BB3E-B8287952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619FB-0744-4DF4-9B8E-23501721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44113-E3EA-4684-8DCF-BE77920F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0697C-5557-49FB-A608-BF920F5A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0C1C-DA76-4A71-BDD3-01250FCE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CA4B-6867-4C7A-A243-0E4D17C7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3AB-12DE-42CE-B5AE-A09ACEE4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985-D333-45B8-A02C-E08FAA1C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29E-DC4A-4115-ABCA-D95E177D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BF9-B6C1-424D-9BC5-F4ABF2E7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616-1002-4AAB-BCD9-3CA29728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556-BF09-4DBC-AE32-4E17A33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7371-2C7C-4AF0-A00E-BE95EDB5254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2FC5-B0E0-48B2-AE3C-767E5ED4BE8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D91D-B064-4EBE-AD71-CB7933FFEFC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إلهي رفعت إليك يد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216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9880" y="0"/>
            <a:ext cx="79232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ذا شعارُ فـداءِ العالـ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يه الفرحُ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فيه الحق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فيه سلامُ القلب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216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8000" y="0"/>
            <a:ext cx="75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هذا جسدُكَ هذا دمُكَ الطاهر فاغسلْ، فاغسلْ يا ربّ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خطايا العالم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لْتَحْيَ بروحِكَ أَنْفُسُ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216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51280" y="836640"/>
            <a:ext cx="457200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8-01T19:00:06Z</dcterms:modified>
  <cp:revision>10</cp:revision>
  <dc:subject/>
  <dc:title>PowerPoint Presentation</dc:title>
</cp:coreProperties>
</file>